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5604-7F9F-487B-AC74-44801EBF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04E2-4C7E-4857-AB6D-A0838DB3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3FDD-B65A-4157-BFC8-13B390AC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60D4-4BD3-4AB2-8F2C-C023380A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3A00-CF16-499F-8DF2-C554B4A8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BD7-97C0-4E0F-8408-C85D54B9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5AB-333B-469D-842D-05FB73B8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EA4-FFCA-48A1-BC57-4EF4E54B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530-1427-4FF4-8085-88A8E350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5C5D-9A73-4278-B4A5-6699A3F2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BBC8-4B34-4052-B50C-D5605143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FA4-8A3A-494E-A70C-8BDCC059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6306-CDDB-4CF2-9823-3A4B21F68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6564" t="14584" r="28126" b="7294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01:46:39Z</dcterms:created>
  <dc:creator>Patrick J. Mooney</dc:creator>
  <dc:description/>
  <dc:language>en-US</dc:language>
  <cp:lastModifiedBy>Patrick J. Mooney</cp:lastModifiedBy>
  <dcterms:modified xsi:type="dcterms:W3CDTF">2012-01-19T01:48:07Z</dcterms:modified>
  <cp:revision>1</cp:revision>
  <dc:subject/>
  <dc:title>Slide 1</dc:title>
</cp:coreProperties>
</file>